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5A7-3AE5-46A6-9E2E-50A3CA60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04E-E8B8-4FDF-B8E0-940B8AA6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59A-449B-42E5-9D55-9F32DF73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9C1-1CB7-412A-8B07-86127B87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CCC-9A66-437B-A455-0FCB649E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4BE-F26D-4CD7-87F3-66C9C992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C3D-4A96-4F9E-A346-03B956F8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5B9-7E21-4D7F-86A6-E56929DB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2D7-4EEC-44DE-A3F3-5DA0910E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9CD-2198-4963-B252-538FB5D7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D3B-19BD-4077-A3BD-2D84E27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2C9-FBD6-4B79-B814-2069B25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FFED-CEA0-4517-A828-ABA3D6FB4D29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562040"/>
            <a:ext cx="60962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987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individuālais projekts Nr. LV0024 </a:t>
            </a:r>
            <a:br>
              <a:rPr sz="1800"/>
            </a:b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,,Latvijas probācijas un ieslodzījuma vietu personāla kapacitātes celšana”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Noslēguma konference - Projekta rezultātu izplatīšana</a:t>
            </a:r>
            <a:br>
              <a:rPr sz="1800"/>
            </a:br>
            <a:br>
              <a:rPr sz="1800"/>
            </a:b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333399"/>
                </a:solidFill>
                <a:latin typeface="Arial"/>
              </a:rPr>
              <a:t>VPD un IeVP darbinieku apmācība </a:t>
            </a:r>
            <a:br>
              <a:rPr sz="2800"/>
            </a:br>
            <a:br>
              <a:rPr sz="2400"/>
            </a:b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LV0024 Apmācību nodaļas </a:t>
            </a:r>
            <a:br>
              <a:rPr sz="2400"/>
            </a:b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vadītāja Daina Vanag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ējošā interv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u dalībnieku atziņas par visnoderīgāko MI apmācībā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ā labāk uzdot jautājumus un kādus, lai izvilktu no klienta nepieciešamos resursus viņa iespējamai maiņai bez konfrontācijas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ādēļ cilvēks mainās vai nemainās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svērt cilvēku uz dialogu un pārmaiņām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 bija svarīgi uzzināt kā veicināt klientu veikt  pārmaiņas sevī un es to uzzināju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4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992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ācību vizī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četras mācību vizītes (Norvēģijā, Dānijā, Francijā), kurās piedalījās 24 pārstāvji no IeVP un VPD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Mērķis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– iepazīties ar probācijas un ieslodzījuma vietu darbinieku apmācību pieredzi un gūt informāciju mācību programmu izstrāde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7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ieredzes apmaiņas vizī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četras pieredzes apmaiņas vizītes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(Īrijā, Norvēģijā, Austrijā),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kurās piedalījās 45 pārstāvji no IeVP un VPD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Mērķi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– gūt pieredzi par izlīguma organizēšanu starp cietušo un likumpārkāpēju, iepazīties ar darba metodēm sabiedrībā izciešamo sodu organizēšanā, pētīt resocializācijas praksi ieslodzījuma vietā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0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līšanās ārvalstu pieredz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jekta īstenošanas laikā tika iekļauta jauna aktivitāt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Dalīšanās ārvalstu pieredzē”,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kas sasaucās ar kopējo projekta mērķi – paaugstināt probācijas sistēmā nodarbināto kompetenci un darba kvalitāti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ieredzes apmaiņas semināra mērķis - pēc iespējas lielāku probācijas darbinieku skaitu iepazīstināt ar citu Eiropas valstu progresīvo pieredzi probācijas jomā, tādejādi attīstot darbinieku motivāciju pilnveidot savas zināšanas, prasmes un iemaņas darbā ar probācijas klient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ā kopumā piedalījās 50 VPD darbinieki, kas pārstāvēja visas TSV un to filiāle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3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olēģ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onsultāci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347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Lai uzlabotu probācijas darba kvalitāti darbā ar klientu, sniegtu savstarpēju atbalstu un vienlaicīgi novērtētu iepriekš minēto apmācību efektivitāti tika iekļauta jauna aktivitāte </a:t>
            </a: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“Kolēģu konsultācijas”,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kas sasaucas ar iepriekš minēto projekta mērķi - paaugstināt probācijas sistēmā nodarbināto kompetenci un darba kvalitāt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laikā tiks īstenoti 16 profesionālā atbalsta pasākumi, kuros kopumā piedalīsies 192 probācijas darbinieki. Kolēģu konsultācijās piedalās darbinieki, kas ir iepriekš piedalījušies apmācībās, tādējādi turpinot apmācību pieredz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Trīs galvenās diskusiju tēmas –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dzimumnoziedzniekiem;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atkarīgām personām;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personām ar garīgas veselības traucējumiem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6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urpinājum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ētījums “Par probācijas un ieslodzījuma vietu darbinieku apmācību vajadzībām, kompetencēm un esošo apmācību programmu izvērtēšanu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eVP un VPD darbinieku mācību programmu izstrāde un pilnveide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Norvēģijas nacionālā mediācijas dienesta atbalsts izlīguma speciālistu sagatavošan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9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1776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oslēguma diskusi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6180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fesionāla speciālista kompetenci raksturo – zināšanas, prasmes un vērtības (attieksmes), lai kvalitatīvi veiktu savu darb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92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eva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valitātes jautājumi: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grib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drīkst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pēj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0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mācību nodaļas uzdev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lānot un organizēt VPD un IeVP darbinieku apmācību semināru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mācību semināru programmu izstrādi un mācību materiālu tulkošan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lānot un organizēt pieredzes apmaiņas vizītes un mācību vizītes uz ārvalstī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pētījuma veikšanu par probācijas un ieslodzījuma vietu darbinieku apmācību vajadzībām, kompetencēm un esošo apmācību programmu izvērtēšan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apmācību programmu izstrādi un pilnveidi probācijas un ieslodzījuma vietu darbinieku apmācība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3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nansē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pējais projekta budžets EUR 869 996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mācību nodaļas uzdevumu realizēšanai plānotais finansējums EUR 619 796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6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15560"/>
            <a:ext cx="82296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rbinieku apmāc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ānotais - 570 dalībnieku apmācība 32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o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pildus 22 semināros tiks apmācīti 351 dalībniek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pumā projekta ietvaros tiks noorganizēti 54 semināri, kuros piedalīsies 932 dalībnieki (IeVP 364 un VPD 568)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z 15.12.2010. apmācīti 314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robācijas darbinieki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o projekta īstenošanas laikā apmācītajiem darbiniekiem probācijā vairs nestrādā 53 semināru dalībnieki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z 15.12.2010.apmācīti 190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eslodzījuma vietu darbiniek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9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mācīb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pildus organizēti semināri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personām ar garīgas veselības traucējumiem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 29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dzimumnoziedzniekiem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 11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atkarīgām personām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27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rsonības attīstības treniņš: emociju pārvaldīšana un stresa pārvarēšan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 3 semināri / 37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vējošā intervēšan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 16 semināri / 256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2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u program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ietvaros ir izstrādātas semināru programmas: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personām ar garīgas veselības traucējum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dzimumnoziedz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atkarīgām personā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ersonības attīstības treniņš: emociju pārvaldīšana un stresa pārvarēšan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tēmas iekļautas darbinieku apmācību programmā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5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u lek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programmas izstrādāja profesionāļi konkrētajā jomā (ārsti, psihologi, psihoterapeiti utml.)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s vadīja speciālisti no ASV, Norvēģijas, Dānijas, Ziemeļīrijas un Šveice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peciālisti no Latvijas  vadīja seminārus –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atkarīgām personām”,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personām ar garīgas veselības traucējumiem”,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dzimumnoziedzniekiem”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8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ējošā interv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23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ēctecību projekta realizācijā nodrošinās 16 apmācītie semināru “Motivējošā intervēšana” (MI) vadītāji, kas projekta ietvaros novadīs 16 seminārus, kopumā apmācot 256 IeVP un VPD darbiniekus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MI vadītājus sagatavoja Īlas cietuma speciālisti no Norvēģija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dalībnieki motivējošās intervēšanas apmācību atzinīgi novērtē, kā darba instrumentu darbam ar klientu gan IeVP, gan VPD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1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ilva.cimdina</cp:lastModifiedBy>
  <dcterms:modified xsi:type="dcterms:W3CDTF">2010-12-14T14:09:18Z</dcterms:modified>
  <cp:revision>33</cp:revision>
  <dc:subject/>
  <dc:title>Slide 1</dc:title>
</cp:coreProperties>
</file>